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2DCA0-1838-4572-801E-AA8899075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0E7DF-33E9-4093-A5D9-6C652BC1B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83AFD-E765-4C1A-A344-16EB4E0BB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6D6A0-C68B-4DA2-B28C-187156FBC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DF641-DC48-4D9C-9839-DAC0760B0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881FE-A2AB-4A5E-9F53-E99165078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8E978-1414-4FE3-92CF-5C857A721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720F5-CEC6-4C63-A0F2-9B2D44B52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8752A-FCDB-4550-81FD-CC2FA27D6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F5D66-303B-46A4-A82C-CA1DB2BBA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712B8-2B56-447E-8DE4-9762A96FE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A53B2-225D-4F12-9FC3-BC7B07EDA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7AC7F-D9B9-4A3E-9211-C749E5D17E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hyperlink" Target="http://images.google.co.nz/imgres?imgurl=http://images.buycostumes.com/mgen/merchandiser/9063.jpg&amp;imgrefurl=http://www.online-halloween-store.com/famous-peoples-masks.html&amp;h=1010&amp;w=455&amp;sz=51&amp;hl=en&amp;start=14&amp;um=1&amp;tbnid=4kAryl-6CCefFM:&amp;tbnh=150&amp;tbnw=68&amp;prev=/images%3Fq%3DCat%2Band%2Bthe%2Bhat%2Bhats%26um%3D1%26hl%3Den%26safe%3Dactive" TargetMode="External"/><Relationship Id="rId4" Type="http://schemas.openxmlformats.org/officeDocument/2006/relationships/image" Target="../media/image2.jpeg"/><Relationship Id="rId5" Type="http://schemas.openxmlformats.org/officeDocument/2006/relationships/hyperlink" Target="http://images.google.co.nz/imgres?imgurl=http://www.brainydays.co.uk/images/dr-seuss-The%2520Cat%2520in%2520the%2520Hat.jpg&amp;imgrefurl=http://sports.espn.go.com/espn/page2/story%3Fpage%3Dlukas/070621&amp;h=475&amp;w=347&amp;sz=36&amp;hl=en&amp;start=11&amp;um=1&amp;tbnid=AyqGmIxj-FHwgM:&amp;tbnh=129&amp;tbnw=94&amp;prev=/images%3Fq%3DCat%2Band%2Bthe%2Bhat%2Bhats%26um%3D1%26hl%3Den%26safe%3Dactive" TargetMode="External"/><Relationship Id="rId6" Type="http://schemas.openxmlformats.org/officeDocument/2006/relationships/image" Target="../media/image3.jpeg"/><Relationship Id="rId7" Type="http://schemas.openxmlformats.org/officeDocument/2006/relationships/image" Target="../media/image4.jpeg"/><Relationship Id="rId8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50000">
              <a:srgbClr val="ffffff"/>
            </a:gs>
            <a:gs pos="100000">
              <a:srgbClr val="ff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 rot="20099400">
            <a:off x="971280" y="3500280"/>
            <a:ext cx="7029360" cy="93672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The Cat in the Hat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pic>
        <p:nvPicPr>
          <p:cNvPr id="42" name="images" descr="">
            <a:hlinkClick r:id="rId3"/>
          </p:cNvPr>
          <p:cNvPicPr/>
          <p:nvPr/>
        </p:nvPicPr>
        <p:blipFill>
          <a:blip r:embed="rId4"/>
          <a:srcRect l="-111" t="3326" r="2335" b="32804"/>
          <a:stretch/>
        </p:blipFill>
        <p:spPr>
          <a:xfrm rot="18528000">
            <a:off x="5687280" y="2097720"/>
            <a:ext cx="792000" cy="863640"/>
          </a:xfrm>
          <a:prstGeom prst="rect">
            <a:avLst/>
          </a:prstGeom>
          <a:ln w="0">
            <a:noFill/>
          </a:ln>
        </p:spPr>
      </p:pic>
      <p:pic>
        <p:nvPicPr>
          <p:cNvPr id="43" name="images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24000" y="1628640"/>
            <a:ext cx="2225520" cy="25923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324000" y="333360"/>
            <a:ext cx="825804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00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Room 16's Awesome Book Week!</a:t>
            </a:r>
            <a:endParaRPr b="0" i="1" lang="en-US" sz="1800" spc="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0000"/>
                  </a:gs>
                </a:gsLst>
                <a:lin ang="54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5" name="" descr=""/>
          <p:cNvPicPr/>
          <p:nvPr/>
        </p:nvPicPr>
        <p:blipFill>
          <a:blip r:embed="rId7"/>
          <a:stretch/>
        </p:blipFill>
        <p:spPr>
          <a:xfrm>
            <a:off x="6443640" y="3789360"/>
            <a:ext cx="237636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9T02:19:41Z</dcterms:created>
  <dc:creator>Administrator</dc:creator>
  <dc:description/>
  <dc:language>en-US</dc:language>
  <cp:lastModifiedBy>Administrator</cp:lastModifiedBy>
  <dcterms:modified xsi:type="dcterms:W3CDTF">2008-09-25T22:39:08Z</dcterms:modified>
  <cp:revision>7</cp:revision>
  <dc:subject/>
  <dc:title>Slide 1</dc:title>
</cp:coreProperties>
</file>