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E40-AF65-4618-9C01-FDE82F1E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754-35B4-41D7-A323-9E7A314C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C5C-4AE9-4CF1-953F-A18B9666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64D-5411-4392-B790-499ACAE3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597-5E91-40B4-9432-21F70C4E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5F3-A92B-4CB3-ADE0-07BCD0D2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4BE-D56C-45F5-A6DE-041C3A77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0A9-045C-49D9-8F67-82587CCC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35D-6359-470F-80D6-2EA1B74B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B33-FCAC-4ED1-9C9B-67D67992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E85-D729-432E-8A49-17CF5E64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D23-F9FD-4658-BB6F-F6BCB44C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AC3A-AD07-401E-9863-065B98690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images.google.co.nz/imgres?imgurl=http://images.buycostumes.com/mgen/merchandiser/9063.jpg&amp;imgrefurl=http://www.online-halloween-store.com/famous-peoples-masks.html&amp;h=1010&amp;w=455&amp;sz=51&amp;hl=en&amp;start=14&amp;um=1&amp;tbnid=4kAryl-6CCefFM:&amp;tbnh=150&amp;tbnw=68&amp;prev=/images%3Fq%3DCat%2Band%2Bthe%2Bhat%2Bhats%26um%3D1%26hl%3Den%26safe%3Dactive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.nz/imgres?imgurl=http://www.brainydays.co.uk/images/dr-seuss-The%2520Cat%2520in%2520the%2520Hat.jpg&amp;imgrefurl=http://sports.espn.go.com/espn/page2/story%3Fpage%3Dlukas/070621&amp;h=475&amp;w=347&amp;sz=36&amp;hl=en&amp;start=11&amp;um=1&amp;tbnid=AyqGmIxj-FHwgM:&amp;tbnh=129&amp;tbnw=94&amp;prev=/images%3Fq%3DCat%2Band%2Bthe%2Bhat%2Bhats%26um%3D1%26hl%3Den%26safe%3Dactive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099400">
            <a:off x="971280" y="3500280"/>
            <a:ext cx="702936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Cat in the H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2" name="images" descr="">
            <a:hlinkClick r:id="rId3"/>
          </p:cNvPr>
          <p:cNvPicPr/>
          <p:nvPr/>
        </p:nvPicPr>
        <p:blipFill>
          <a:blip r:embed="rId4"/>
          <a:srcRect l="-111" t="3326" r="2335" b="32804"/>
          <a:stretch/>
        </p:blipFill>
        <p:spPr>
          <a:xfrm rot="18528000">
            <a:off x="5687280" y="2097720"/>
            <a:ext cx="792000" cy="863640"/>
          </a:xfrm>
          <a:prstGeom prst="rect">
            <a:avLst/>
          </a:prstGeom>
          <a:ln w="0">
            <a:noFill/>
          </a:ln>
        </p:spPr>
      </p:pic>
      <p:pic>
        <p:nvPicPr>
          <p:cNvPr id="43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1628640"/>
            <a:ext cx="2225520" cy="259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24000" y="333360"/>
            <a:ext cx="82580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om 16's Awesome Book Week!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6443640" y="3789360"/>
            <a:ext cx="2376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9:41Z</dcterms:created>
  <dc:creator>Administrator</dc:creator>
  <dc:description/>
  <dc:language>en-US</dc:language>
  <cp:lastModifiedBy>Administrator</cp:lastModifiedBy>
  <dcterms:modified xsi:type="dcterms:W3CDTF">2008-09-25T22:39:08Z</dcterms:modified>
  <cp:revision>7</cp:revision>
  <dc:subject/>
  <dc:title>Slide 1</dc:title>
</cp:coreProperties>
</file>