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4DC-C838-479B-932B-46B9EFED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7D7-A28A-4C22-8E52-E443811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CD2-FEA5-43E2-8E8C-8F0DE1D2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4DD-C58F-4FC1-B3E5-8A6326AE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EED-5747-4023-BE04-6CAD7D4E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A5F-AA7C-4941-80F1-7962D2A0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272-5BFF-4DEF-ABDB-A85BAB2B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B86-6271-42B4-9065-A14B972B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E03-B3FE-4FEB-81B0-C9003894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3C6-CB8D-4C09-80A1-985464E2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EEE-5F59-4CD5-B90B-4D849253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FC1-BA75-448D-9703-D1F0F7A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747C-A6E2-4603-B38C-A93D5FB3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.nz/imgres?imgurl=http://images.buycostumes.com/mgen/merchandiser/9063.jpg&amp;imgrefurl=http://www.online-halloween-store.com/famous-peoples-masks.html&amp;h=1010&amp;w=455&amp;sz=51&amp;hl=en&amp;start=14&amp;um=1&amp;tbnid=4kAryl-6CCefFM:&amp;tbnh=150&amp;tbnw=68&amp;prev=/images%3Fq%3DCat%2Band%2Bthe%2Bhat%2Bhats%26um%3D1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nz/imgres?imgurl=http://www.brainydays.co.uk/images/dr-seuss-The%2520Cat%2520in%2520the%2520Hat.jpg&amp;imgrefurl=http://sports.espn.go.com/espn/page2/story%3Fpage%3Dlukas/070621&amp;h=475&amp;w=347&amp;sz=36&amp;hl=en&amp;start=11&amp;um=1&amp;tbnid=AyqGmIxj-FHwgM:&amp;tbnh=129&amp;tbnw=94&amp;prev=/images%3Fq%3DCat%2Band%2Bthe%2Bhat%2Bhats%26um%3D1%26hl%3Den%26safe%3Dactive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099400">
            <a:off x="971280" y="3500280"/>
            <a:ext cx="7029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Cat in the H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" name="images" descr="">
            <a:hlinkClick r:id="rId3"/>
          </p:cNvPr>
          <p:cNvPicPr/>
          <p:nvPr/>
        </p:nvPicPr>
        <p:blipFill>
          <a:blip r:embed="rId4"/>
          <a:srcRect l="-111" t="3326" r="2335" b="32804"/>
          <a:stretch/>
        </p:blipFill>
        <p:spPr>
          <a:xfrm rot="18528000">
            <a:off x="5687280" y="209772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1628640"/>
            <a:ext cx="222552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333360"/>
            <a:ext cx="8258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om 16's Awesome Book Week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6443640" y="3789360"/>
            <a:ext cx="237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9:41Z</dcterms:created>
  <dc:creator>Administrator</dc:creator>
  <dc:description/>
  <dc:language>en-US</dc:language>
  <cp:lastModifiedBy>Administrator</cp:lastModifiedBy>
  <dcterms:modified xsi:type="dcterms:W3CDTF">2008-09-25T22:39:08Z</dcterms:modified>
  <cp:revision>7</cp:revision>
  <dc:subject/>
  <dc:title>Slide 1</dc:title>
</cp:coreProperties>
</file>